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F31-6F99-4E9C-9B5B-1427E8D0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0FA-87CF-466A-85ED-F6A026D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981-6BFA-4AB4-A028-A92B46F6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C6B-A68A-44CD-8B78-92FCD2D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5E1-825A-4980-8CE2-88ABBDD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341-1E55-428A-B1CF-13D31BF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96C-F59C-4183-A92D-3904A5C7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668-BC19-49B0-93FD-532A259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A62-EAB0-4D11-AC09-1A10822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C00-529B-42DE-BBB6-C444E9F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243-C6DD-48D7-ABAB-035B735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8BD-C868-4DF2-8F75-902DFBA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AE6-21A4-43C7-AA3F-45A9E213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ffect of Mass on Ballistics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Erik V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icture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657600" y="1219320"/>
            <a:ext cx="22604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733920" y="29718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Bibliography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ow to Make Your Own Ballistic Gel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 Science Project Answers Your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yscienceproject.org/gelatin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jor Pandemic - MajorPandemic.com: Equipment Reviews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 Pande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majorpandemic.com/p/equipment-reviews.html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VidoEmo.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motional Video 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b. 18 Mar. 2012. &lt;http://www.vidoevo.com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ed out of the same gun, using the same amount of force, is a projectile of a larger mass more likely to be more lethal or cl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predict an increase in mass will also greatly increase kill percenta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isy Powerline 880s Dual Ammo Air Rif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istics gelatin (homemade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munition as listed in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Material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s #9 Solvent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Compress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e meas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r and shooting st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o Nighthaw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asure Shooting Distance (25 ft.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t up shooting rig at dist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ean air g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Procedure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y out projectiles for test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st each projectile (on same piece of gel) with Daisy and Gam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ather 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Heavy"/>
              </a:rPr>
              <a:t>Results and Conclusion</a:t>
            </a:r>
            <a:endParaRPr b="0" lang="en-US" sz="5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1932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concluded that the projectile with the larger mass effected a greater area but did not penetrate as deep. I personally would take more surface area over deeper penetration ba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Results Cont.</a:t>
            </a:r>
            <a:endParaRPr b="0" lang="en-US" sz="6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my shooting ability and gun because shooting a pellet with a larger mass automatically increases the size of your kill zone. If I had a more reliable shot it might be an intelligent thought to try a projectile that would penetrate dee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5:06Z</dcterms:created>
  <dc:creator>Sterling Grade School</dc:creator>
  <dc:description/>
  <dc:language>en-US</dc:language>
  <cp:lastModifiedBy>USD376</cp:lastModifiedBy>
  <dcterms:modified xsi:type="dcterms:W3CDTF">2012-03-18T20:37:57Z</dcterms:modified>
  <cp:revision>6</cp:revision>
  <dc:subject/>
  <dc:title>Title</dc:title>
</cp:coreProperties>
</file>